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4FBE-4794-41FC-A075-E9A98E64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A198-3398-4B78-BBA2-EA468406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82A-269F-4FAE-BA71-6EA40628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72D-2892-46E1-A52F-90BBAF7B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22E-1501-452F-96FA-73A60DE3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10F-C5CB-4FF6-8F0A-A9D7A514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976-011F-40F4-9854-BED418F2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337-6AD1-456D-8D09-F9E4114D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2C8-E836-4C03-9123-E0C9CFB4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09E-4C36-4070-8450-AEB5CE43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E47-790C-4B93-8C2C-4A2BCA97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64EB-89AF-44AF-B9C1-6686F959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4592-9FE0-4C2D-9BF4-D0536E613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8400" y="546120"/>
            <a:ext cx="77472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219320"/>
            <a:ext cx="5486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Billing/Accou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Receivable/Cash Receipts (B/AR/CR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Proc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46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789B-122A-4F9A-8A41-E54D56DA80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echnology Supporting B/AR/C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Bill Presentment and Pa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pt of C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, Debit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by T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ba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Self-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22ED-F512-419E-AE9F-A39BD1AD99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he Fraud Connectio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result from improper segregation of du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dy of c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ing of cash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 pockets cash/check received from custome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at customer A doesn’t complain about missing payment, employee credits customer B’s payment to A’s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at customer B doesn’t complain about missing payment, employee credits customer C’s payment to B’s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cheme comes unraveled when the employee runs out of hours in the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5A5-C62B-4876-9AD4-203A9E7DD0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B/AR/CR Context Diagram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09560" y="1407960"/>
            <a:ext cx="7467480" cy="530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130-8BE7-4EAB-984E-A57C72F3B1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7120" y="609480"/>
            <a:ext cx="2286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B/AR/CR Level 0 DF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516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0E1-839F-4723-BF22-6618E833DC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B/AR/CR Process Diagram 1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erform Billing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763120" cy="386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B33-C666-4BBC-BC2A-7D6BD3D19D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/AR/CR Process Diagram 2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anage Customer Account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594560" cy="541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88E4-E25F-44F0-8DE9-C99C8DE0FF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/AR/CR Process Diagram 3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ceive Paymen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45320" cy="463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8D7-8A37-4252-A2B9-4807F66030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1360" y="177480"/>
            <a:ext cx="772128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ata Descriptions in B/AR/C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/R maste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s receivable master dat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repository of all unpaid invoices issued by an organization and awaiting final dis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accounts receivable systems exi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B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ance-onl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n item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D56C-390B-426F-A598-D546B18F0C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1360" y="177480"/>
            <a:ext cx="772128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alance-only system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-only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R records show a customer’s current balance due, past-due balance, and the finance charges and payments related to the acc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onth, unpaid current balances are rolled into the past-due bala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 and gas utility companies typically use balance-only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4A8C-4706-43F6-926A-D4433815BE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1360" y="177480"/>
            <a:ext cx="772128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pen-item system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-item syste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e in situations where the customer typically makes payments for specific invoices when those invoices are d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AR master data, each record consists of individual open invoices, to which payments and adjustments are appl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customer statement of account, a “lump sum” beginning balance is not sh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, all invoices that are yet to be settled continue to be listed, along with payment detai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each open invoice is grouped by aging category and aged individu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ly, or at specified times, the customer accounts are aged and an aging schedule is pri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C9B1-38EF-4064-8D52-1CED2421A9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stand relationship between B/AR/CR and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stand relationship between B/AR/CR and management problem solving at various levels of th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ome familiar with some of the technology used in implementing the B/AR/CR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e a reasonable level of understanding of the logical &amp; physical characteristics of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 a foundation level of understanding as to how enterprise systems impact the processing of information in the B/AR/C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gnize some plans commonly used to control the B/AR/C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209680"/>
            <a:ext cx="2971800" cy="1828800"/>
          </a:xfrm>
          <a:prstGeom prst="flowChartProcess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/AR/C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2808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ata Descriptions in B/AR/C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21560" cy="52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 even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or more invoice records (details contained in invoice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/R adjustment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-offs, estimated doubtful a/c, sales return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urnal voucher #, trans. code, autho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h receipt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 of customer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4C47-9902-44DD-B982-ABFAD0D2B6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5520" y="609120"/>
            <a:ext cx="2514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E-R Diagram (Partial) for B/AR/C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04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879-4ADD-4499-ACDD-A809238D5B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1828800"/>
            <a:ext cx="2057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lling Function System Flow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6248160" cy="602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3A1-4987-4A77-B69E-D608D547CB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14840" y="609120"/>
            <a:ext cx="1600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rol Matrix for Billing Proces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934320" cy="655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840A-E327-405E-9DF4-D8FEEBF95A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2438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ash Receipts System Flowchar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43200" y="838080"/>
            <a:ext cx="5943600" cy="534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E6B-3713-4D0B-89B0-43FAD83C37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67120" y="609480"/>
            <a:ext cx="1676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sh Receipts Control Matrix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315200" cy="612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BA5-03AF-4022-A0A0-A7E09F8479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ling/accounts receivable/cash receipts (B/AR/CR) proc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interacting structure of people, equipment, methods, and controls designed to create information flows and records that accomplish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repetitive work routines of the credit department, the cashier, and the accounts receivable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problem-solving processes of financial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 in the preparation of internal and external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65C7-2C9B-49D5-96BA-27B2E47108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Horizontal View B/AR/C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1066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19051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1447920"/>
            <a:ext cx="228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Shipping department informs the accounts receivable department (billing section) of ship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308240"/>
            <a:ext cx="6477120" cy="48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9BB8-ACBF-42F1-B135-350F182BEB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Horizontal View B/AR/C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1066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19051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1295280"/>
            <a:ext cx="1981440" cy="50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a. Accounts receivable department (billing) sends invoice to custo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b. and c. Cash applications and general ledger department informed that an invoice has been sent. Accounts receivable and sales accounts are upd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1308240"/>
            <a:ext cx="6553080" cy="49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1D7-C129-478A-9874-C221BF9C14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Horizontal View B/AR/C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0" y="1066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19051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144792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Customer payment is recei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1308240"/>
            <a:ext cx="6553080" cy="49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7A4-2D46-4676-B3CD-AFE60D9007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Horizontal View B/AR/C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1066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19051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1447920"/>
            <a:ext cx="198144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a. Cashier deposits payments in ban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b. and c. System informs accounts receivable department (cash applications section) of pay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308240"/>
            <a:ext cx="6553080" cy="49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9B93-AAC9-4D75-BC64-CB542FFACE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Horizontal View B/AR/C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1066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19051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1447920"/>
            <a:ext cx="198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 Cashier informs general ledger process of pay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1308240"/>
            <a:ext cx="6553080" cy="49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7B6-8B28-47DD-8E0F-AFD1524B4A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ash Receipts Managemen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billing function, the goal is to get invoices to customers as quickly as possible; with the hope of reducing the time it then takes to obtain customer pay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ing the B/AR/CR process produce invoic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tomatic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ensure that invoices are sent to customers shortly after the goods have been shi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n applied to cash receipts, is the time between the customer tendering payment and the availability of good fu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d fun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funds on deposit and available for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9610-0A5A-4EE6-9352-BEB63B2907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urt Westbrook</dc:creator>
  <dc:description/>
  <dc:language>en-US</dc:language>
  <cp:lastModifiedBy> </cp:lastModifiedBy>
  <cp:lastPrinted>1998-08-03T00:11:14Z</cp:lastPrinted>
  <dcterms:modified xsi:type="dcterms:W3CDTF">2007-06-21T16:26:34Z</dcterms:modified>
  <cp:revision>19</cp:revision>
  <dc:subject/>
  <dc:title>Chapter 11</dc:title>
</cp:coreProperties>
</file>